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662F1-39B3-443B-9617-EB3CF2B6C86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Espace réservé du numéro de diapositive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B68EC-8556-48AD-95D0-6A7C5D00468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C4FC-620E-421B-81E1-348635620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088E-D237-4AFB-9382-4A4D4996A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080C-B208-4BE0-A886-B73C6B5DB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C6EA-3748-4CBE-A761-52228F8C1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6A426-2C37-4278-92EC-B47DC69F6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11CA2-5A8A-4723-ACF3-3F66DAD8E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9CF5D-F09D-42B9-94EC-C60E79916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449D2-23A8-4F38-A355-10A23D4AF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D43F4-966E-4BAB-A042-2275FDA5A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A548B-5FAD-4B95-A3DA-C9D159B35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24887-A979-4289-9F96-A410DC47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6CEB-CC08-46FA-9CBD-91AEF9874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8C305-98CB-45D5-9E7F-526D2AD2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4F0A4-30C6-4ECF-9562-6D515D0E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2AC70-AAEC-4557-8FDE-1C0A7C5F3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024DD-A7BB-4073-B87E-6BFAB65A8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D3185-7FF1-4994-A512-05CA55C11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EF28-7B37-40B3-9A00-0E310B22B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1797-D495-4919-9D02-D2F0FEC58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6B77-B36E-4FE6-A26D-33D955D75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9662-F583-46F7-A4F0-DCF6717B8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656C-BD58-4B28-9981-6B79FA44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2E88-A8F1-46CE-8CA1-260BCC46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F762-5C19-43DE-BAAF-B1843918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99289-C005-47B1-8B6F-F0FB1E94A649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850B1-1BDC-4C45-A99D-E6E872CD4F4F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27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0" lang="fr-FR" sz="4000" spc="-1" strike="noStrike">
                <a:solidFill>
                  <a:srgbClr val="999900"/>
                </a:solidFill>
                <a:latin typeface="Garamond"/>
              </a:rPr>
              <a:t>LA MUTUELLE DES FORCES ARMÉES NATIONALES (MUFAN)</a:t>
            </a:r>
            <a:r>
              <a:rPr b="0" lang="fr-FR" sz="5800" spc="-1" strike="noStrike">
                <a:solidFill>
                  <a:srgbClr val="999900"/>
                </a:solidFill>
                <a:latin typeface="Garamond"/>
              </a:rPr>
              <a:t>:</a:t>
            </a:r>
            <a:br>
              <a:rPr sz="5800"/>
            </a:br>
            <a:r>
              <a:rPr b="0" lang="fr-FR" sz="3600" spc="-1" strike="noStrike">
                <a:solidFill>
                  <a:srgbClr val="999900"/>
                </a:solidFill>
                <a:latin typeface="Garamond"/>
              </a:rPr>
              <a:t>prestations garanties et modalités de prise en charge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7743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édecin colonel-major  Dominique ZOUR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conomiste de la santé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irecteur de la MUF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Courbe de demande d’adhésion en fonction de la prime (R2=0,51) (10)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7040" cy="45306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4976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1009800" y="13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2" name="Object 6"/>
          <p:cNvGraphicFramePr/>
          <p:nvPr/>
        </p:nvGraphicFramePr>
        <p:xfrm>
          <a:off x="1009800" y="1905120"/>
          <a:ext cx="7124400" cy="5333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09800" y="1905120"/>
                    <a:ext cx="712440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9900"/>
                </a:solidFill>
                <a:latin typeface="Garamond"/>
              </a:rPr>
              <a:t>Dépenses de santé en fonction de l’âge (11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416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0" lang="fr-FR" sz="4000" spc="-1" strike="noStrike">
                <a:solidFill>
                  <a:srgbClr val="999900"/>
                </a:solidFill>
                <a:latin typeface="Garamond"/>
              </a:rPr>
              <a:t>La prime (cotisations)  (12)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44360" y="23623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ût  moyen de l’hospitalisation 3236,55f/ adhér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C 80%, </a:t>
            </a:r>
            <a:r>
              <a:rPr b="1" lang="fr-FR" sz="2800" spc="-1" strike="noStrike" u="sng">
                <a:solidFill>
                  <a:srgbClr val="000000"/>
                </a:solidFill>
                <a:uFillTx/>
                <a:latin typeface="Verdana"/>
              </a:rPr>
              <a:t>prime = 2588,8 francs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les 20% à la charge de l’adhérent (ticket modérateu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prime équit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ime off= 2 fois prime MD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ime sous-off = 1,5 fois prime du MD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Primes par catégorie (13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Officiers          = 4843 (5000)franc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us-officiers= 3632 (3600)franc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DR              = 2421,5 (2400) fran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III) Le panier de soins (14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énéficiai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43040" indent="-343080">
              <a:spcBef>
                <a:spcPts val="499"/>
              </a:spcBef>
              <a:buClr>
                <a:srgbClr val="6666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Le militaire seul sans sa famil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imites  géographiques de l’off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 plateau technique national public/ à défaut, le priv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estations offer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édicaments          consultations spécialis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boratoire               Imagerie médica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Hôtellerie                  Acte chirurgic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IV) Modalités de prise en charge (15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édicaments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(ayant l’AMM au Burkina Fas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escription médica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Génériques et spécialité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clusion des vitamines non thérapeutiq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clusion des fortifia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lafonnement de l’ordonnance à 3 mois de traitemen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utorisation spéciale si ordonnance &gt;100000 f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raitement du couple en cas d’I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roduit d’hygiène, cosmétologie, aphrodisiaque </a:t>
            </a:r>
            <a:r>
              <a:rPr b="0" lang="fr-FR" sz="2000" spc="-1" strike="noStrike">
                <a:solidFill>
                  <a:srgbClr val="ff0000"/>
                </a:solidFill>
                <a:latin typeface="Verdana"/>
              </a:rPr>
              <a:t>non prise en char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                                             </a:t>
            </a: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(16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spect du palier de prescrip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terdiction de PEC si un examen&gt;50 000 fr sauf dérogation (prélèvements envoyés en Fran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ultations spécialis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incipe de référ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                                     </a:t>
            </a: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(17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mager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spect du palier de prescrip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spect du réseau de partena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cte chirurgic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spect du réseau de partena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hirurgie esthétique non PE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as de plafonnement dans la prise en char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C de prothèse bilatérale à la polyclinique NDP pour un montant de 1,6 millions en mai 2015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                                        </a:t>
            </a: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(18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Hôtellerie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(chambre d’hospitalisatio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pplication des tarifs en vigueur dans le secteur publi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 cas de prise en charge en clinique privée l’hôtellerie est incl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                                          </a:t>
            </a: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(19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C limitée au plateau technique national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(donc pas de greffes d’organe, de chirurgie cardiaque etc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Verdana"/>
              </a:rPr>
              <a:t>Pas de PEC des prothèses dentaires, des verres correcteu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C de la MUFAN = panier intermédiaire RAMU-B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Plan (2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) La  genèse de la MUFAN (contexte et justification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I) L’Etude de faisabilité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II) Le panier de soi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V) Les conditions de prise en char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) Les résultats atte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I) Les enseignements à ti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                                        </a:t>
            </a: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(20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lauses de contrat avec les partenaires (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Verdana"/>
              </a:rPr>
              <a:t>service assurance qualité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Obligation de vérification du respect du palier de prescrip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Obligation de vérification de l’identité du bénéficiaire de la pres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nterdiction de délivrance des produits non pris en charge par la MUF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nterdiction de délivrance si quantité&gt; 3 mois de traitement ou 100 000 f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                                              </a:t>
            </a: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(21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lauses de contrat avec les bénéficiai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espect du réseau de partenai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espect des procédures médico-militai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résentation des documents d’identification au prestatai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Non PEC des examens demandés dans le cadre médico-administratif (aptitude pour stage ou mission) ou dans le cadre médico-légal (test d’AD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lafonnement à 250 000fr en l’absence d’une pathologie chronique identifiée (suspension de la PEC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Tiers payant avec un ticket modérateur de 20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V) Les résultats atteints    (22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lus de 95% des militaires sont membres de la MUF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ogiciel de traitement de données adapté à la gestion du portefeuille de risq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 2014, plus de 10 000 adhérents PEC pour un montant de plus de 437 millions  la PEC la plus élevée étant de 3,2 mill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ût moyen/ adhérent PEC 2014: 25658 fran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2,5 milliards de francs distribués aux prestataires depuis 200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cc00"/>
                </a:solidFill>
                <a:latin typeface="Verdana"/>
              </a:rPr>
              <a:t>Plus d’un milliard de francs de réser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Chiffres d’affaires depuis 2008 (23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57120" y="2643120"/>
          <a:ext cx="8229600" cy="261468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113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rtenai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h. Hôpital Oua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h. Aoudi Bob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AM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MA Schiph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U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14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iffres d’affaire auprès de la MUF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3 mill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1 mill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 mill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4 mill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 mill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VI) Les enseignements à tirer    (24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Verdana"/>
              </a:rPr>
              <a:t>Les déterminants de l’escalade des coû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 catégorie socioéconomique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Verdana"/>
              </a:rPr>
              <a:t>communication journée scientifique de Nouna 2009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vitamines et fortifiants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(8,53% des dépenses en  médicaments en 2010; principe de l’élasticité prix de la demand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 non respect des schémas thérapeutiques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(cas du palu: 22,68% ordonnances et 21, 84% dépenses de santé; non respect des GDT et des algorithmes =&gt; molécule spécifique =1/3 du coût de l’ordonnance; 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Verdana"/>
              </a:rPr>
              <a:t>JSSB 2010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 recours excessif aux médicaments de spécialité ayant des équivalents génériques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(82 millions/ 364 millions soit 22% de surcoût de dépenses en médicaments; 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Verdana"/>
              </a:rPr>
              <a:t>JSSB 2014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conclus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ise en charge des gros risques et des petits risq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petits risques: facteur inflationniste (élasticité prix de la demande est fort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rticulation mutuelle </a:t>
            </a:r>
            <a:r>
              <a:rPr b="0" i="1" lang="fr-FR" sz="2400" spc="-1" strike="noStrike">
                <a:solidFill>
                  <a:srgbClr val="000000"/>
                </a:solidFill>
                <a:latin typeface="Verdana"/>
              </a:rPr>
              <a:t>(petit risque et contrôle social) </a:t>
            </a:r>
            <a:r>
              <a:rPr b="1" i="1" lang="fr-FR" sz="2400" spc="-1" strike="noStrike">
                <a:solidFill>
                  <a:srgbClr val="000000"/>
                </a:solidFill>
                <a:latin typeface="Verdana"/>
              </a:rPr>
              <a:t>/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AMU BF </a:t>
            </a:r>
            <a:r>
              <a:rPr b="0" i="1" lang="fr-FR" sz="2400" spc="-1" strike="noStrike">
                <a:solidFill>
                  <a:srgbClr val="000000"/>
                </a:solidFill>
                <a:latin typeface="Verdana"/>
              </a:rPr>
              <a:t>(gros risque dont la demande est inélastiqu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fficacité des mécanismes de régulation (Régulateur des soins: GDT, algorithm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Verdana"/>
              </a:rPr>
              <a:t>Le panier de soins en relation avec la capacité de gestion du risque mor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I) Contexte et justifications (3)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1) besoins croissants en matière de santé (démographique, épidémiologique , technologiqu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2) fin de l’État provid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3) l’accessibilité aux soins comme objectif du PNDS au Burkina Fas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4) forte attente du militaire pour une meilleure protection socia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5) contexte réglementaire favorable à la création de structure de couvertures sociales (art 19 du statut général des personnels des FA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6) plus grande opérationnalité de l’Armé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7) contribution à l’équilibre financier  (les hommes à l’abri des usurier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8)  l’hôpital militaire au service réel du militai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9900"/>
                </a:solidFill>
                <a:latin typeface="Garamond"/>
              </a:rPr>
              <a:t>II) Étude de faisabilité: objectifs (4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(étude faite en 200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ourcentage de militaires confrontés à une inaccessibilité financière aux so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Opinion sur une mutuelle de san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Times New Roman"/>
              </a:rPr>
              <a:t>Étude de faisabilité: les points clés (5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55,9% des enquêtés ont été confrontés à une inaccessibilité financière aux soins (intervalle de trois moi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Voies de recours habituelles (6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8" name="Object 3" descr=""/>
          <p:cNvPicPr/>
          <p:nvPr/>
        </p:nvPicPr>
        <p:blipFill>
          <a:blip r:embed="rId1"/>
          <a:stretch/>
        </p:blipFill>
        <p:spPr>
          <a:xfrm>
            <a:off x="849240" y="2058840"/>
            <a:ext cx="7672320" cy="414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Voies de recours habituelles (7) 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0" name="Object 3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769608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Intentions formelles d’adhésion 61.98%  (8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terminants de l’adhé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Verdana"/>
              </a:rPr>
              <a:t>la Caisse Épargne Santé     </a:t>
            </a:r>
            <a:r>
              <a:rPr b="0" i="1" lang="fr-FR" sz="2000" spc="-1" strike="noStrike" u="sng">
                <a:solidFill>
                  <a:srgbClr val="ff0000"/>
                </a:solidFill>
                <a:uFillTx/>
                <a:latin typeface="Verdana"/>
              </a:rPr>
              <a:t>(influence négativ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cc00"/>
                </a:solidFill>
                <a:latin typeface="Verdana"/>
              </a:rPr>
              <a:t>La solidarité                       </a:t>
            </a:r>
            <a:r>
              <a:rPr b="0" i="1" lang="fr-FR" sz="2000" spc="-1" strike="noStrike" u="sng">
                <a:solidFill>
                  <a:srgbClr val="00cc00"/>
                </a:solidFill>
                <a:uFillTx/>
                <a:latin typeface="Verdana"/>
              </a:rPr>
              <a:t>(influence positiv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cc00"/>
                </a:solidFill>
                <a:latin typeface="Verdana"/>
              </a:rPr>
              <a:t>L’aversion pour le risque     </a:t>
            </a:r>
            <a:r>
              <a:rPr b="0" i="1" lang="fr-FR" sz="2000" spc="-1" strike="noStrike" u="sng">
                <a:solidFill>
                  <a:srgbClr val="00cc00"/>
                </a:solidFill>
                <a:uFillTx/>
                <a:latin typeface="Verdana"/>
              </a:rPr>
              <a:t>(influence positive</a:t>
            </a:r>
            <a:r>
              <a:rPr b="0" i="1" lang="fr-FR" sz="2000" spc="-1" strike="noStrike" u="sng">
                <a:solidFill>
                  <a:srgbClr val="000000"/>
                </a:solidFill>
                <a:uFillTx/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 prime (solidarité: prime&lt;ou= 1000f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Disposition à payer: Propositions de primes faites par les enquêtés (9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2324160" y="16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5" name="Object 4"/>
          <p:cNvGraphicFramePr/>
          <p:nvPr/>
        </p:nvGraphicFramePr>
        <p:xfrm>
          <a:off x="990720" y="2286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86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Rectangle 5"/>
          <p:cNvSpPr/>
          <p:nvPr/>
        </p:nvSpPr>
        <p:spPr>
          <a:xfrm>
            <a:off x="2324160" y="16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9T08:19:19Z</dcterms:created>
  <dc:creator>DEP</dc:creator>
  <dc:description/>
  <dc:language>en-US</dc:language>
  <cp:lastModifiedBy>Baly Ouattara</cp:lastModifiedBy>
  <dcterms:modified xsi:type="dcterms:W3CDTF">2015-06-09T13:57:14Z</dcterms:modified>
  <cp:revision>127</cp:revision>
  <dc:subject/>
  <dc:title>MUTUELLE DES FAN</dc:title>
</cp:coreProperties>
</file>